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C10-FC4C-4DCC-946A-54638B6E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12C-277F-4523-AE25-F74A353B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569-65C7-49A0-BEC3-C0051A09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0B8-8EDA-4916-A961-7E663958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AD1-2562-495C-9C98-96B2EFD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AAC9-A65A-4B19-B4C6-AF2AD271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4CD-EC1F-42E8-A86A-D315C629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EF7-FC07-44BA-BC5C-D25F98B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597F-BD0E-4558-B3E3-F7B5C171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17D6-A2C5-4DAF-B3CF-7A0C899F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F21-3C16-41C8-9084-7833B31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4A7-2CE1-4314-BBB4-99F6C87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F8CC-2306-485E-8E27-A65A8DC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BFB5-D1FB-495F-A9F8-317BA13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416C-2C06-4B0D-8B6C-76A1A4EA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49CC-89D3-443E-8EFA-5F8B1FAF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5AE5-8647-4D9A-A068-6037FD08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9D2-81B7-46F7-8B20-9B86246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354-B4B8-47A6-BB4B-75420817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305-383C-458D-B5A9-AA7F470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083-B488-49A3-893A-37DF2BC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2EC-5C5C-4BB7-B44E-29E9DCC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9CE-AFA4-4764-A3E5-BB227353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89C-9AB5-459F-B634-EFBA1E6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657B-FE0B-44C5-B0EB-44CBB05B8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3A7-23E4-436A-B2E8-3A97D1E21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rter 5, Lesson 1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ive Us A King “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United Kingdom, Part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10-31, Pages 182-19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Words of Agur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apters 30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confession of faith (1-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prayer (7-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f wicked generations (10-1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ngs that are never satisfied (15-1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on who despises his parents (1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wonderful things (18-2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unfortunate situations (21-2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little but very smart creatures (24-28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things that march stately (29-3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ease from foolishness and strife (32-3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Words of King Lemuel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apters 31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ice from a mother to a s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oid seductive wom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oid strong drin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lp the unfortun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aise of a virtuous woman and a good housew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ysical appearance may be deceitful and v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roverb i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ment of condensed (short and concise) wisdom gleaned from years of experi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ment of wisdom guided by the Holy Spirit to include for all men of all generation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s the fear of the Lord as it’s solid foundation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 - Purpos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know wisdom and instru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discern the words of understand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receive instruction in the “whys and wherefores” of righteous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prudence to the “simple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the “wise man” learning and understanding in sound rules of conduct and managing the affairs of l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lin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atherly instructo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-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overbs of Solomon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0-2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of Solomon, copied by the men of King Hezekiah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s 25-2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Agu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King Lemuel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Proverbs of Solomon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uggard” – one who i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lazy person (slothfulness); indiffer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bitually idle or ina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kes excuses for doing nothing or very litt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or; has nothing of value; wastefu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uses shame and disgrace upon himsel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e in his own conce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ves on the labors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ontrasts between the wise and the fool: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ise man -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st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alks in God’s way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n be taugh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lans his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reful what he say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ts along with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4343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ool -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ll not list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es not seek G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nows everyth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 plans; haphazar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reless tong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lames others for his misfortun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hildren and Parents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be taught (22:6 &amp; Eph. 6:1,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be disciplined (13:24 &amp; 22:1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listen to parents (6:20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not curse parents (20:20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not despise instruction (15: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not rob parents (28:1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rents must love their children (13:2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Wickedness and Righteousness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eousness delivers from death (10: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eousness has rewards (11:18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eousness exalts a nation (14:3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ckedness is an abomination unto God (15: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Warnings in General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Dealing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terial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ue of a good wife (or husban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contentious, nagging woma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immoral woma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 of the tong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runken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ling with men of power (governmen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1:05:02Z</dcterms:created>
  <dc:creator>Don Vines</dc:creator>
  <dc:description/>
  <dc:language>en-US</dc:language>
  <cp:lastModifiedBy>Frank D Vines</cp:lastModifiedBy>
  <dcterms:modified xsi:type="dcterms:W3CDTF">2005-09-18T13:15:07Z</dcterms:modified>
  <cp:revision>19</cp:revision>
  <dc:subject/>
  <dc:title>Proverbs</dc:title>
</cp:coreProperties>
</file>